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FC1-D02A-4AA4-8320-B52AE1D6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88A-D6FC-4441-BEE3-05D130C7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DBE-1658-449B-B210-97AF6D86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D58-23CD-4A8A-9FAD-745C33E0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1C0-282E-4C39-A622-8CD833FA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908-206B-4C5A-99EB-82382BB1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9DC-8370-4CF0-8430-85450E0E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668-CA9B-4F33-8237-E076154E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949-9974-484A-91C9-47FB89D4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4FC-2F57-4AD5-B1A6-A23B117E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939-4495-4C34-88B6-7877FC32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880-C000-412B-9A7F-0DA062B1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8A38-3576-46E7-86A9-CCCE31745B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NINE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1785960"/>
            <a:ext cx="871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φεντες τον πατερα αὐτων Ζεβεδαιον ἐν τῳ πλοιῳ μετα των ἀλλων ἀπηλθον ὀπισω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ἀποκριθεις εἰπεν αὐτοις∙ Δοτε αὐτοις ὑμεις φαγ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ακαριοι οἱ πεινωντες και διψωντες την δικαιοσυν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ποιων την ἀληθειαν ἐρχεται προς το φως, ἱνα φανερωθῃ αὐτου τα ἐργ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.. ἱνα παντες τιμωσι τον υἱον καθως τιμωσι τον πατερα, ὁ μη τιμων τον υἱον οὐ τιμᾳ τον πατερα τον πεμψαντα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αὐτοις ὁ Ἰησους∙ Ἐγω εἰμι ὁ ἀρτος της ζωης∙ ὁ ἐρχομενος προς ἐμε οὐ μη πεινασῃ, και ὁ πιστευων εἰς ἐμε οὐ μη διψησ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908520" y="12430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42920" y="1571760"/>
            <a:ext cx="87152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το δε ἐστιν το θελημα τ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μψαντος με, ἱνα παν ὃ δεδωκεν μοι μη ἀπολεσω ἐξ αὐτου, ἀλλα ἀναστησω αὐτο ἐν τῃ ἐσχατῃ ἡμερ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 ἀκουσας ὁτι Ἰησους ἡκει ἐκ της Ἰουδαιας εἰς την Γαλιλαιαν ἀπηλθεν προς αὐτον και ἠρωτα ἱνα καταβῃ και ἰασηται αὐτου τον υἱον, ἠμελλεν γαρ ἀποθνῃσκ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he perished, he rose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strong man will win – he labours and lives to win (for ‘win’ 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ικαω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asked where she was b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have led them astray from the path; who can justify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42920" y="17859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απητοι, ἀγαπωμεν ἀλληλους, ὁτι ἡ ἀγαπη ἐκ του θεου ἐστιν, και πας ὁ ἀγαπων ἐκ του θεου γεγεννηται και γινωσκει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τα τουτο εἰδως ὁ Ἰησους ὁτι ἠδη παντα τετελεσται, ἱνα πληρωθῃ ἡ γραφη, λεγει∙ Διψ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νεδυσαν αὐτον τα ἱματια αὐτου και ἀπηγαγον [= ἀπ-ἀγω] αὐτον εἰς το σταυρωσαι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δε εἰπαν αὐτῳ∙ Δος ἡμιν ἱνα εἱς σου ἐκ δεξιων και εἱς ἐξ ἀριστερ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ισωμεν ἐν τῃ δοξῃ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 οὐν ποιησει ὁ κυριος του ἀμπελω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λευσεται και ἀπολεσει τους διακονους και δωσει τον ἀμπελωνα ἀλλ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προσεκαλεσατο αὐτους λεγων∙ Ἀφετε τα παιδια ἐρχεσθαι προς με∙ των γαρ τοιουτων ἐστιν ἡ βασιλει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908520" y="12430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42920" y="1571760"/>
            <a:ext cx="871524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τολην καινην διδωμι ὑμιν, ἱνα ἀγαπατε ἀλληλους∙ καθως ἠγαπησα ὑμας ἱνα και ὑμεις ἀγαπατε ἀλληλ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λαλειν τους μαθητας αὐτος ὁ Ἰησους ἐστη ἐν μεσῳ αὐτων και λεγει αὐτοις∙ Εἰρηνη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knows to give good things in order to honour his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ild, filled with wisdom, said [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ημι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]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I am standing where you left me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s promise was fulfilled and he appeared standing before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placed his hands on the sick child with the result that the child was hea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14200" y="1219320"/>
            <a:ext cx="87156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3.24-30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ἐὰν βασιλεία ἐφ’ ἑαυτὴν μερισθῇ [μεριζ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ivid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οὐ δύναται σταθῆναι ἡ βασιλεία ἐκείνη∙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5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ὰν οἰκία ἐφ’ ἑαυτὴν μερισθῇ, οὐ δυνήσεται ἡ οἰκία ἐκείνη σταθῆναι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6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εἰ ὁ Σατανᾶς ἀνέστη ἐφ’ ἑαυτὸν καὶ ἐμερίσθη, οὐ δύναται στῆναι ἀλλὰ τέλος ἔχει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7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ἀλλ’ οὐ δύναται οὐδεὶς εἰς τὴν οἰκίαν τοῦ ἰσχυροῦ εἰσελθὼν τὰ σκεύη αὐτοῦ διαρπάσαι [διαρπαζ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lunde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ἐὰν μὴ πρῶτον τὸν ἰσχυρὸν δήσῃ, καὶ τότε τὴν οἰκίαν αὐτοῦ διαρπάσει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8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Ἀμὴν λέγω ὑμῖν ὅτι πάντα ἀφεθήσεται τοῖς υἱοῖς τῶν ἀνθρώπων τὰ ἁμαρτήματ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in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αἱ βλασφημί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lasphemie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ὅσα ἐὰν βλασφημήσωσιν∙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ὃς δ’ ἂν βλασφημήσῃ εἰς τὸ πνεῦμα τὸ ἅγιον, οὐκ ἔχει ἄφεσι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orgivenes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τὸν αἰῶνα, ἀλλὰ ἔνοχ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uilt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στιν αἰωνίου ἁμαρτήματος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0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ὅτι ἔλεγον, Πνεῦμα ἀκάθαρτον ἔχει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1:43:15Z</dcterms:created>
  <dc:creator>Sarah</dc:creator>
  <dc:description/>
  <dc:language>en-US</dc:language>
  <cp:lastModifiedBy>Sarah</cp:lastModifiedBy>
  <dcterms:modified xsi:type="dcterms:W3CDTF">2009-03-02T20:40:13Z</dcterms:modified>
  <cp:revision>18</cp:revision>
  <dc:subject/>
  <dc:title>Slide 1</dc:title>
</cp:coreProperties>
</file>